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67C-3C71-4803-A2B7-4C50B0DD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3A4-C3EA-4C73-95EC-DA3C21F6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4A1-1608-42CA-9007-D19B600A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A10-F656-48F6-9005-B70BEDD5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786-5869-4FFD-A686-B15644D7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44D-F931-444D-9BBB-EC299DBC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4FE-F8D2-43F0-9BEE-A5787BBD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9E0-38E0-4A78-BE8D-41B674D0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245-F720-499B-B2D8-A2D33BF2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5DF-32C0-4068-AAA7-17BBAA56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4CD-A47F-451C-90F7-BC4278D3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6C5-3361-4960-B813-38208C47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370A-8C41-4E80-B1C1-3083362E8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Death By Co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take to kill a man with pop and can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s I get from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pop and 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 Coke (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brand or generic in 2 liter and 20oz. siz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, Mento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b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ball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ict that a 2 liter bottle of name brand Coke and a single roll of name brand Mentos will produce the highest pressur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 will individually test each combination of generic and name brand soda and Mentos. I will also test different sizes and choose the ones that I think creates the highest pressure to conduct my experiment wit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 Second I will test to see if my theory is even reasonable using balloons. I will repeat what I did in the last step using the most powerful combinations only this time placing balloons over the opening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pending on the results I get I may or may not continue tes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2 liter bottle of Diet Coke and also using the generic version the theory test proved successful. Even with a partial package of mentos the ballons ruptured almost immediat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bsolute perfect conditions are created suffocation may be possible but the chances of stomach rupture are next to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4:37:22Z</dcterms:created>
  <dc:creator>STERLING  USD376</dc:creator>
  <dc:description/>
  <dc:language>en-US</dc:language>
  <cp:lastModifiedBy>USD376</cp:lastModifiedBy>
  <dcterms:modified xsi:type="dcterms:W3CDTF">2011-03-28T19:35:52Z</dcterms:modified>
  <cp:revision>4</cp:revision>
  <dc:subject/>
  <dc:title>PowerPoint Presentation</dc:title>
</cp:coreProperties>
</file>